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wmf" ContentType="image/x-wmf"/>
  <Override PartName="/ppt/media/image7.gif" ContentType="image/gif"/>
  <Override PartName="/ppt/media/image20.wmf" ContentType="image/x-wmf"/>
  <Override PartName="/ppt/media/image11.wmf" ContentType="image/x-wmf"/>
  <Override PartName="/ppt/media/image6.wmf" ContentType="image/x-wmf"/>
  <Override PartName="/ppt/media/image1.wmf" ContentType="image/x-wmf"/>
  <Override PartName="/ppt/media/image9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0004-2BC8-4FFE-BFF2-CE58239B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A8C4-7EC0-48CE-9974-A9B296D9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6B89-888C-4A59-BB5D-79084D54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A582-E22E-463B-AB3E-0F931DA5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011B-F283-4A1F-8019-661BC6E1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4A79-EC85-47EB-BE08-337B285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04CC-93CE-4C3A-BA34-99E667E2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CAC-AA98-4A6B-A013-5A6F95B3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1837-DC16-41C0-8D3C-7E669F7A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6527-8559-424F-950B-1A6540B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18E-7852-462A-8284-D71E5888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9418-FA2C-4C08-9126-6BF34C1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54C-931E-4832-951F-EB99286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912-7407-44AB-B4D2-99D9049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1EA-56AA-4ADB-A019-349D8913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8006-49E0-4136-8ECC-4558821B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F28-830B-4BAB-86D6-8BBA3BF3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9803-01EF-40B8-8050-DD3A0AF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7BA3-2199-4219-8E28-9BF2855E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4D6B-6C85-4833-8350-F4D9EE7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D09B-C056-45FE-A062-C6FDDDBA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2C1A-BFE2-46FC-8959-EF54070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8B2F-57A7-4EF0-A7D4-2CE271E6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7189-6155-4C4F-B224-69D69D1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6869-97BF-40DB-A663-F75A07169B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2A58-6C15-49DB-A46C-FCD85EFC2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 3: Caring for Your Skin, Teeth, and Hai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rushing and Flossing Your Teeth – Figure 3.7 p. 7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brush (ABC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Use Dental Floss (ABCD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181764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y Ski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kin is the largest organ of your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erforms several key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1271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igure 3.8 Your Skin’s Functions - p. 7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proofing – your skin serves as a protective covering against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ation – your skin is a sense organ, containing nerve endings that give you information about temperature and t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Control – Your skin plays a key role in regulating body temperature. Blood vessels in your skin help retain or release heat. Perspiration cools your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min D Formation – Your skin uses the sun’s ultraviolet light to produce small amounts of vitamin D, which helps to build bones and te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– Your skin is your first line of defense against germs and inj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17064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Inside Story – p. 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= two main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pidermis – the outermost layer of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w cells made in the epidermis continuously replace old on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Arial"/>
              </a:rPr>
              <a:t>Cells in the epidermis make melanin (the substance that gives your skin its color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346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layer of skin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ath the epidermis is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rm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rmis – the skin’s inner layer that contains blood vessels, nerve endings, and hair follic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s two kinds of glan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weat Gl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il Gl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9349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 glands let perspiration escape through p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res – tiny openings in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l glands keep the skin sof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3.9 Parts of the Skin, p. 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1942920" cy="1984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5052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ing for Your Ski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l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 against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 am – 3 p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dition occurs when active oil glands cause pores to become clog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mples, whiteheads, or blackheads may res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ne appears on the face, but may also affect the neck, back, and shou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4148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ighting Ac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wash the affected area at least twice daily with mild soap and warm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touching, picking at, or rubbing the area and don’t apply heavy make up or cre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401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ELL ACTIVITY – 10/6/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do you do every day to keep your teeth healthy? Your skin? Your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y Hai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air color comes from melan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your hair is straight, wavy, or curly depends on the shape of the hair shaft or part of the hair that you can s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visible portion is made of dead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air cells grow beneath the skin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9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ing for Your Hai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bru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andruff – a flaking of the outer layer of dead skin cells on the scalp. Usually caused by dry ski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ad lice – parasitic insects that live in the hair and cause itc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n’t share combs, brushes, or hats with oth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9954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view/Clos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plaque and tart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five of the functions of the s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epidermis and derm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y Tee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ure 3.5 – p. 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what’s inside your teeth will help you take care of them more effect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604200">
            <a:off x="5791320" y="3657600"/>
            <a:ext cx="11667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h enamel is the hardest substance in the human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o hard a dentist’s drill must turn at a rate more than 8,000 times per second in order to drill into a too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19932000">
            <a:off x="456840" y="3809520"/>
            <a:ext cx="12477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ing for Your Tee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them healthy and c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neglect (ignore) your teeth, you allow the process of tooth decay to beg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1683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oth Decay Process Figure 3.6 – p. 7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combined with food =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laqu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thin sticky 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laqu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s not cleaned away, it become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artar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(hard material that threatens gum heal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rtar must be removed by a dentist or dental hygie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4290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laque combines with sugar from foods to form an ac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cid eats a cavity or hole, in the tooth’s enam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2971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decay spreads, invading the tooth’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dentin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decay then spreads to the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 pulp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the cavity exposes a nerve, you are likely to have a tootha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1981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 fight tooth decay and keep your teeth healthy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sh teeth regularly – at least twice a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toothpaste that contain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louride (a substance that helps teeth resist dec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ental f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down on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a balanc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regular dental check 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10857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56:44Z</dcterms:created>
  <dc:creator>GSCS</dc:creator>
  <dc:description/>
  <dc:language>en-US</dc:language>
  <cp:lastModifiedBy>GSCS</cp:lastModifiedBy>
  <dcterms:modified xsi:type="dcterms:W3CDTF">2010-10-04T17:37:47Z</dcterms:modified>
  <cp:revision>3</cp:revision>
  <dc:subject/>
  <dc:title>Chapter 3</dc:title>
</cp:coreProperties>
</file>